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8220-4CA2-464E-91B3-A7347A90C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know what to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know where to grow… if they are all the sam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 are differ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64A6-4AC5-404A-94F6-324E3B4B6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 bring book out of library. Make copies of pages you need. Leave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B275-5FAD-4C1A-8B53-1EAB508AF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19D2-7024-414C-98B7-09AD48A05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1C7D-F1A6-44BB-8415-C6AC55FD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22A9-EDEE-47A5-B661-E71470B0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986-944C-4CF9-B88D-6FB8B96A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EBF2-D5CA-4E15-B4C1-44170DE0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9CB3-0FC1-4A1A-8D6B-07C35BAD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0B7D-9E7E-42A2-9DAA-463D371A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3EA6-4CF4-47AE-9AE5-CC2C4109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9DBF-30E3-4329-91F8-983871A5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7BA6-63B3-4C7D-BF38-F1A16217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A3C4-0642-42A1-A2EA-E95B70CC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F5FA-438B-409E-9005-1BF43DB2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9BE9-1058-4A1C-8192-6A99AA44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F4F9-CB7E-46F9-B12C-F28635CB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33C5-0E77-4FC7-AC8C-41E1BE42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B2BA-12A0-4268-AE93-3691FFE7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46EA-FEC2-45C6-803B-77612207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1896-00F1-492E-979A-CCF38A2D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FAC80-1BF4-4B9B-8A2E-645EF5A8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27DC5-00BC-4C0E-97E2-F9622253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068DB-B83D-45CA-B69A-B7D0E279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B3368-6B86-4617-9E42-FA28C144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FE72B-FE08-4134-BA6F-C20AE470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023A-771D-4DF0-A567-7493F6DE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08EC9-A717-4027-AE17-99907278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C12B5-F287-4439-BF7B-07C23705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60D3B-5200-4AA9-BB21-218BA96B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BA2E2-87CE-43D7-9090-3B91812F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03411-46C7-46DE-ACDD-6ECB73D8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EE953-42FE-450C-8055-B21BB62C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FF8DB-B8F6-4B40-96CF-E8D8C222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3E61E-B079-48AA-9A1A-B8075855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BE390-9C55-41F9-85CD-572D98C7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115E1-D8DC-47C6-87C4-D9270F82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C44-BB12-41D8-B680-DD7EBFAC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CDE21-A6EA-4C5F-B0AC-ED3945DF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E163A-70EB-4CDD-AEE3-305FC6A9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D3CD2-A4EA-4B39-ADF5-B314D0F3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5E951-7DA3-40D2-AB56-0B541DA0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04C9B-C00A-433C-9763-C1FFC945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68F62-CAFE-40D9-8A33-AB9A6CB7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C58D2-81AD-4A0B-AF2C-F8DA5399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DBF5F-B235-4E84-A105-F5C33BD4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AEF3A-C1F4-4A46-B9EF-6E6C742A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9473C-C699-421F-9C0D-A409C780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C19-45AF-4D29-B589-E918DE72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EEB7A-6B02-45F4-BE95-61C50EFE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E0713-8469-4144-84B3-F0E6EA1E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281A4-F63A-46F1-9CD4-AA09916C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429A0-A48A-4CCD-95FB-FB85BFE6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778AB-CE0C-4421-B8AB-DAAA1D6D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D86DF-6181-40EC-BA80-26319AAD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36176-E581-483E-B87A-C939207C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FBE29-B15D-409A-AEAC-3AF7C99C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32F23-F636-4A79-9564-A22E55E3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C973A-930A-4DBE-A534-FFF68CED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D4D-AFBA-44BE-9E22-2498A993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94923-56C6-4B83-80E7-C9B7CC39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B1597-2E9C-4492-8B13-2720EEDE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6851F-7917-4AEB-9B74-E6C93DCB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58243-BB17-4688-AF7A-3FD2C1D7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4E5E1-9C40-40A4-9C42-36C98249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5A5A0-BC50-463E-ADAD-E73C92CD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0F23C-36E0-489D-AC05-60A612D1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71F08-16F8-4376-9F3F-620E7E0E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27670-C0C9-487C-948E-51369CCD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649F8-916C-41BE-ABB1-BA2F7433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BFA-2BCC-40CF-B1DA-C28794C0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3C7BC-5715-4CD2-9E7C-555C7C77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87D34-4284-4FBB-A8F9-13CC6082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608A8-FE61-4113-8020-DB9368FC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33C28-0708-45DC-AEAA-A2F5DB00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CF983-74EA-4673-989A-3612D3AF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81988-8025-42CA-8489-4ED9BF1A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C5E84-A90B-4D5E-96AD-17460D15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D358A-E382-4FD3-8C78-233FFC45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BB09F-FF51-4D21-A258-E479E7AC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9DDAD-470B-444D-88AA-780867F5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368-99BD-42B7-A7A8-2C262B57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DE307-FDD6-41DD-A000-EFA860FA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E8ABB-BD0E-4B5A-B399-48479CED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1613D-82A8-4F3C-BBB3-ED69A2FB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215C0-EF61-49A1-9EC8-41675882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6249A-17E7-4D2F-8D47-755F5CC9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E72-1193-4CA5-911A-99762992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4D43-E203-45D1-A039-ED43D5AFDB8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4AF7-BFCC-4910-9DB8-8FA91372AD8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303D-8596-426E-8B97-A43C4B5CB6A6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D5EC-1FEF-4816-80ED-A8E206A3136C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254B-46BB-43A7-A990-360718AC2EAB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2774-2F5B-48FF-BCB5-B5132AFF7DC8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8F61-AD6A-4973-8472-E648E458053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327D-2014-4B41-8674-F0069D9232D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2A03-274D-4BDE-99D6-5CF752CEB7E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7453-6D10-4F95-A48C-95355F32A2F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5B00-7D45-47F9-AE20-2FCC56216DF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480C-C177-486B-AC75-6F3367367A8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8F9B-D58A-4F1D-9871-4F432B9A467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EF90-1738-403E-9C85-0D41057FBDD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-class.unl.edu/biochem/gp2/m_biology/animation/gene/gene_a2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upload.wikimedia.org/wikipedia/commons/0/07/Gene.png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Oval Callout 19"/>
          <p:cNvSpPr/>
          <p:nvPr/>
        </p:nvSpPr>
        <p:spPr>
          <a:xfrm>
            <a:off x="304920" y="914400"/>
            <a:ext cx="8686800" cy="42670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47880">
            <a:solidFill>
              <a:srgbClr val="2f6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DNA is in all of my cells why aren’t my cells all the sam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7C12-C681-4A8A-821D-E9A331DE649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0996-AB17-48CD-8CB2-6517BB07215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5410080" y="2971800"/>
            <a:ext cx="1371600" cy="121932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2-Point Star 16"/>
          <p:cNvSpPr/>
          <p:nvPr/>
        </p:nvSpPr>
        <p:spPr>
          <a:xfrm>
            <a:off x="3962520" y="3886200"/>
            <a:ext cx="1752480" cy="1066680"/>
          </a:xfrm>
          <a:custGeom>
            <a:avLst/>
            <a:gdLst>
              <a:gd name="textAreaLeft" fmla="*/ 399960 w 1752480"/>
              <a:gd name="textAreaRight" fmla="*/ 1352520 w 175248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owchart: Sequential Access Storage 17"/>
          <p:cNvSpPr/>
          <p:nvPr/>
        </p:nvSpPr>
        <p:spPr>
          <a:xfrm>
            <a:off x="6934320" y="2971800"/>
            <a:ext cx="1676160" cy="838080"/>
          </a:xfrm>
          <a:prstGeom prst="flowChartMagneticTap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iley Face 20"/>
          <p:cNvSpPr/>
          <p:nvPr/>
        </p:nvSpPr>
        <p:spPr>
          <a:xfrm>
            <a:off x="380880" y="4724280"/>
            <a:ext cx="2286000" cy="1905120"/>
          </a:xfrm>
          <a:prstGeom prst="smileyFace">
            <a:avLst>
              <a:gd name="adj" fmla="val 9282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  <a:ea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0880" y="17524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Arial"/>
                <a:ea typeface="Arial"/>
                <a:hlinkClick r:id="rId1"/>
              </a:rPr>
              <a:t>http://www-class.unl.edu/biochem/gp2/m_biology/animation/gene/gene_a2.ht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www.stolaf.edu/people/giannini/flashanimat/molgenetics/transcription.swf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CE37-B2D6-4B59-9200-733C5A3B884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4E5B-B98B-4A93-B8FE-E93230D08B0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ease add the complementary strand to this half of DN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G GAC CAT TTC CCG GT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transcribe  ( the new strand to DN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C5F2-7125-4C59-AC6F-5C419373955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0F5E-D054-4C36-A6D3-732D4A2A599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code is now in English thanks to the enzym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DNA couldn’t move out of the cell, but RNA can!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RNA moves from nucleus to Ribosome  in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ytoplas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where  ribosome reads it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ow Ribosome cannot build a house by himself anymore than  you or I so he has some help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ED88-04C2-42C3-9C62-9C20AAF0C1C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5504-AD2B-4CCE-9591-ED358A2B704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4" descr=""/>
          <p:cNvPicPr/>
          <p:nvPr/>
        </p:nvPicPr>
        <p:blipFill>
          <a:blip r:embed="rId1"/>
          <a:stretch/>
        </p:blipFill>
        <p:spPr>
          <a:xfrm>
            <a:off x="347760" y="23760"/>
            <a:ext cx="8345520" cy="13906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NA travels to Ribosome in th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ytoplas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R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taches the the  instructions (mRNA) to the Riboso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ibosome then  reads the instruction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emember that the ribosome cannot do this alon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He Translates it for his workers, and tells them what pieces he needs to make the house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60EB-47EF-43CE-8A4F-9723D18EF90D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67B9-44A6-4A25-B6A7-62605D107DE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is workers names are </a:t>
            </a:r>
            <a:br>
              <a:rPr sz="3000"/>
            </a:b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fer RNA  (tRNA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y bring amino acids and deliver them to Ribosome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ibosome tells them what order to bond them together with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ptide bo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and  they then leave to bring more piec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n this way every protein in the body is made from a chain of amino acid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81B4-E308-400C-91ED-CACAFA3C32E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D549-F100-463C-85D0-73B2139E139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  <a:ea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www.stolaf.edu/people/giannini/flashanimat/molgenetics/translation.swf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www-class.unl.edu/biochem/gp2/m_biology/animation/gene/gene_a3.html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A533-FF01-47FD-9314-53E101B72E68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A413-112A-40E9-BDA3-80F02D101C6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15228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crip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 Enzyme  called transcriptase unzips and Transcribes the DNA into (messenger RNA) mRNA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ngle chain with Uricil instead of  Thymin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RNA takes the message to Ribosom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l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ibosome gets help from Transfer RNA (tRNA) and builds a chain of amino acids (protein)  Turning a code into a protei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buClr>
                <a:srgbClr val="60b5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re are many Ribosomes in a cell, and they can all work on different proteins at the same time.. In this way the cell can build even faster!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AC47-EEC9-4FC9-BFDB-84ECE6D96BC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2A7F-63CB-4202-ADE4-4141F200D84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  <a:ea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95C1-1592-47FE-B3B7-61DFF9D45078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0EEA-7FAE-4A5D-B1ED-2D7B27C40A7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http://www.accessexcellence.org/RC/VL/GG/images/protein_synthesis.gif"/>
          <p:cNvPicPr/>
          <p:nvPr/>
        </p:nvPicPr>
        <p:blipFill>
          <a:blip r:embed="rId1"/>
          <a:stretch/>
        </p:blipFill>
        <p:spPr>
          <a:xfrm>
            <a:off x="1082520" y="685800"/>
            <a:ext cx="54738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4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strand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ymi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romosom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gle stran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rici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than one typ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B438-51F8-438F-BD49-07F2C6F94088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3A54-E20E-4732-97C1-9AF19386594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109440" y="755640"/>
            <a:ext cx="8510760" cy="10796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514440" indent="-514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ssenger RNA (mRN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ings instructions from DNA in the nucleus to the cytoplas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bosomal RNA (rRN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nds to the mRNA and uses instructions to assemble the amino acids in the correct ord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fer RNA (tRN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Supplier. Delivers amino acids to the ribosome to be assembled into a protein. (amino acid delivery truck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http://www.mtrinstitute.com/images/DNA.jpg"/>
          <p:cNvPicPr/>
          <p:nvPr/>
        </p:nvPicPr>
        <p:blipFill>
          <a:blip r:embed="rId2"/>
          <a:stretch/>
        </p:blipFill>
        <p:spPr>
          <a:xfrm>
            <a:off x="243000" y="1600200"/>
            <a:ext cx="8291520" cy="5257800"/>
          </a:xfrm>
          <a:prstGeom prst="rect">
            <a:avLst/>
          </a:prstGeom>
          <a:ln w="0">
            <a:noFill/>
          </a:ln>
        </p:spPr>
      </p:pic>
      <p:sp>
        <p:nvSpPr>
          <p:cNvPr id="32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4831-FFFD-4ACD-A3E4-C95C6756134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1B86-FEBE-407A-8704-2DF06BC9E8C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  <a:ea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learn.genetics.utah.edu/content/begin/dna/transcribe/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609F-51C0-41E9-BB58-3690E2D41925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87F8-B8D5-4DE2-9A43-98577FB2A4F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  <a:ea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  <p:sp>
        <p:nvSpPr>
          <p:cNvPr id="39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EEF9-3061-42D6-B763-85C9F212298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4197-E043-495D-83F5-B61526294AF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" descr=""/>
          <p:cNvPicPr/>
          <p:nvPr/>
        </p:nvPicPr>
        <p:blipFill>
          <a:blip r:embed="rId2"/>
          <a:stretch/>
        </p:blipFill>
        <p:spPr>
          <a:xfrm>
            <a:off x="1447920" y="1746360"/>
            <a:ext cx="68482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www.biostudio.com/demo_freeman_protein_synthesis.htm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didn’t like this one as much, but it does let you see th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vcell.ndsu.edu/animations/translation/movie.htm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extra terms, but goo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92B6-F689-4FE4-8E17-C5828FE7A1A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A9F9-875B-4429-95D9-C01FFE86A2A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www.youtube.com/watch?v=41_Ne5mS2l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cription and translation ( very good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CC1D-1DFF-4990-BFF7-53E6C264DB5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8BCD-3976-4636-BDDD-345AD3E82ED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742240" cy="12621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www.hippocampus.org/hippocampus.php/course_locator.php?course=AP%20Biology%20I&amp;lesson=12&amp;topic=1&amp;width=600&amp;height=350&amp;topicTitle=The%20Transcription%20of%20DNA%20to%20RNA%3A%20Overview&amp;skinPath=http://www.hippocampus.org/hippocampus.skins/default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ACB7-E4D1-41D6-B6DF-B5711600CA5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F4EB-27D9-4CE2-A3F2-228F3AA827D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80880" y="17524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www.hippocampus.org/hippocampus.php/course_locator.php?course=AP Biology I&amp;lesson=11&amp;topic=1&amp;width=600&amp;height=350&amp;topicTitle=DNA%20Replication%3A%20Overview&amp;skinPath=http://www.hippocampus.org/hippocampus.skins/defaul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lick on number 4!!!!!!!!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here is extra information in this video that you won’t need to know for Our cla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0558-22ED-4DA7-B3BD-D6F0561A89E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E56E-4B7A-462A-BA13-083A2120985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highered.mcgraw-hill.com/olc/dl/120077/bio25.swf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72E9-5E65-4860-A72C-E99CBA19420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4EFE-0012-44A8-9763-311DE89611C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t they all have the information so they could be the sam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NA fragme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44D7-C578-416A-95B8-140E293000E5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280F-4041-4204-9482-81E82FEBD18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teins have job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What are some things they can do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 proteins are called enzymes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 are structural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Where are proteins  made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bosom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295F-2A81-4121-980A-2115B4099C0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C860-6F5E-41F2-B90C-8430740C834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http://www.dreamingintechnicolor.com/IdeaLab/membrane_proteins.jpg"/>
          <p:cNvPicPr/>
          <p:nvPr/>
        </p:nvPicPr>
        <p:blipFill>
          <a:blip r:embed="rId2"/>
          <a:stretch/>
        </p:blipFill>
        <p:spPr>
          <a:xfrm>
            <a:off x="914400" y="2362320"/>
            <a:ext cx="7315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4" descr=""/>
          <p:cNvPicPr/>
          <p:nvPr/>
        </p:nvPicPr>
        <p:blipFill>
          <a:blip r:embed="rId1"/>
          <a:stretch/>
        </p:blipFill>
        <p:spPr>
          <a:xfrm>
            <a:off x="189000" y="212760"/>
            <a:ext cx="4316400" cy="1012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3657600"/>
            <a:ext cx="8229600" cy="26510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NA is made up of thousands of smaller pieces called genes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 of these genes are “turned on” and can be “read” depending on the cell, and the cells job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88E5-0E83-4322-B700-EA6EDB4529B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EB26-C226-4599-9C97-12262900300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File:Gen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33920" y="304920"/>
            <a:ext cx="45720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d0d0d"/>
                </a:solidFill>
                <a:latin typeface="Arial"/>
                <a:ea typeface="Arial"/>
              </a:rPr>
              <a:t>These genes are marked in code that enzymes can read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d0d0d"/>
                </a:solidFill>
                <a:latin typeface="Arial"/>
                <a:ea typeface="Arial"/>
              </a:rPr>
              <a:t>Back to gen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Each gene (gene can be thousands of nucleotides long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d0d0d"/>
                </a:solidFill>
                <a:latin typeface="Arial"/>
                <a:ea typeface="Arial"/>
              </a:rPr>
              <a:t>Each single protein has a special purpose in a cel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  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Liver cel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Arial"/>
                <a:ea typeface="Arial"/>
              </a:rPr>
              <a:t>Enzyme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Skin cel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Muscle cell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C38C-6667-4CA5-80E0-D959541A449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EBEB-FB08-40B2-A3C4-4EF47AA8E41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 now we know what we are copying we are copying the blueprint for a protein…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But HOW do we do it???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Easy right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No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magine you are trying to build a house… (cell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re are the problem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…….the blueprints are locked inside the library (nucleus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 … The blueprints are written in another language…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… The man (Ribosome) who is going to build the house isn’t allowed inside the librar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E277-4D1C-4C5F-88E2-BA7F81B87C8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FB76-6EE1-46E6-BF68-3562F4305E2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4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335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re are enzymes inside the library(nucleus) that are able to change the DNA code into “english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step is call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crip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enzyme (RNA polymerase) does this by unzipping the DNA, and reading one side making a copy of the DNA, (almost like replication and changing it so that Ribosome will be able to read i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CECD-3693-4599-BBA2-90AB2352A19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934D-3E03-46C0-96B7-82AA18747F5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copy is called mRNA (messenger Ribonucleic acid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ead of being a double strand RNA is single stranded, and uses Uricil instead of thym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racil bonds with Adenine in R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zyme knows where to  start and stop copying the DNA  because the DNA has a start, and stop code in those plac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0CD7-6C72-4A9A-B6E7-55AA0890AF68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84F7-F464-43A1-9C34-C3156B0C585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3:43:30Z</dcterms:created>
  <dc:creator>Registered User</dc:creator>
  <dc:description/>
  <dc:language>en-US</dc:language>
  <cp:lastModifiedBy>Registered User</cp:lastModifiedBy>
  <dcterms:modified xsi:type="dcterms:W3CDTF">2009-01-30T02:55:58Z</dcterms:modified>
  <cp:revision>206</cp:revision>
  <dc:subject/>
  <dc:title>Heredity and Inheritance</dc:title>
</cp:coreProperties>
</file>